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4F1FE-16BD-45C7-ABDD-D86B805034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91957-9AA3-4D67-9697-BA9C6E0D4E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3979B-8A1D-4685-84E0-DAE3F705D8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43459-C2C4-4D94-85B8-35630820EF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27E26-8565-44B6-8D1B-C145E6C665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345FC-A9DA-4114-8E90-17D346B5A3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7B802-1D71-4FAC-A899-56B46436D1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EB049-B4CF-4838-81EE-647A48FD25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788BF-9CF3-44F8-B3BF-5BA9708A34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2CA50-B771-49DD-A33A-7972FB9A91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E83A0-E3C6-4454-AD7E-C9B4C142F9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5A678-C6F4-4541-A907-59412986B7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1C3E1-D0A9-4595-BC5C-AB4B762CFE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544C1-8210-4F6D-BCE4-D8F8F7ED87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23602-B9BB-4AD9-8660-35DBC75C57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D2995-F7A8-452E-9C7D-F8D53690F6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E204C-309A-4210-92A7-BCC0CB38CD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9BD19-2105-4A56-A3F4-B282232F18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E0E91-8AD3-413D-9679-A3B4237D8F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EAB43D-5D91-4870-958D-6A225961E4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0BBA48-0128-4054-921F-3562235288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F21816-3A4A-426A-A44D-C0CABDA284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3B4E90-B2B6-4E58-BE72-02A1C3DF80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60B9A-4F93-4232-BBA7-5DFCDD591BA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E3825-D669-4987-AB24-DB8BDA96920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41D3A-7FFC-4E99-BB74-2EF9DEC843A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843E7-748C-43BE-8FAD-4FDC28E5583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D7BEE-E561-462A-95B3-33D1D32C52A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AB524-AC36-461A-8EBA-CFFAC81F274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5AE53-2CFC-4DA9-A4BF-B3FD1A2DFD3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5AA9B7-F040-40A3-BF1D-13BE2A2A02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333B0-B312-4B35-9E5F-68B65650A6E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2E2A0-3534-4965-A2A7-1CE9D42A0CD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9BF0F-88D6-4A11-B88F-D027AD4B986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9157E-5126-44C8-BB7D-ACA4C9CE74E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AC1A3-6B9F-4E91-BB3E-8372557CE3A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EF9C8B-919B-4681-AA25-8466BDD477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07F5AA-5C32-4C3E-847A-20FC15792E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1829C0-30F6-4728-9DA3-1D70D10CFE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33F7F6-F83A-4A57-B10D-620BC9DD13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66F38D-D6EB-48E4-B543-A9F7904643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6F3F36-0A21-462B-828B-A096BAA2CC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79CC33-234F-41A8-8216-2EFBF1293B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CC68F-0633-4FF8-8AA1-DA0E34899BB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5486400" y="6248520"/>
            <a:ext cx="3200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4A724-EB23-4E49-A56B-F528A36603E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9520" y="1904760"/>
            <a:ext cx="487692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Quality Manual Structure and Cont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1" descr="HHS-Logo-blue"/>
          <p:cNvPicPr/>
          <p:nvPr/>
        </p:nvPicPr>
        <p:blipFill>
          <a:blip r:embed="rId1"/>
          <a:stretch/>
        </p:blipFill>
        <p:spPr>
          <a:xfrm>
            <a:off x="41148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7" descr="2BSLATH"/>
          <p:cNvPicPr/>
          <p:nvPr/>
        </p:nvPicPr>
        <p:blipFill>
          <a:blip r:embed="rId2"/>
          <a:stretch/>
        </p:blipFill>
        <p:spPr>
          <a:xfrm>
            <a:off x="4876920" y="6172200"/>
            <a:ext cx="761760" cy="5493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6" descr="WHO-EN-C-H"/>
          <p:cNvPicPr/>
          <p:nvPr/>
        </p:nvPicPr>
        <p:blipFill>
          <a:blip r:embed="rId3"/>
          <a:stretch/>
        </p:blipFill>
        <p:spPr>
          <a:xfrm>
            <a:off x="5715000" y="6172200"/>
            <a:ext cx="1828800" cy="560520"/>
          </a:xfrm>
          <a:prstGeom prst="rect">
            <a:avLst/>
          </a:prstGeom>
          <a:ln w="0">
            <a:noFill/>
          </a:ln>
        </p:spPr>
      </p:pic>
      <p:grpSp>
        <p:nvGrpSpPr>
          <p:cNvPr id="11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7" name=""/>
          <p:cNvSpPr/>
          <p:nvPr/>
        </p:nvSpPr>
        <p:spPr>
          <a:xfrm>
            <a:off x="3581280" y="1828800"/>
            <a:ext cx="4953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Quality Manual Structure and Contents - option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170FAD-B91F-43C5-A449-8D2FDAEF3D2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533160" y="1523880"/>
            <a:ext cx="8001000" cy="38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job descriptions, including qualifications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personnel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laboratory organizational c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recruitment cond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intern and student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457200" y="411120"/>
            <a:ext cx="822960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4. Personn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A9514A-011B-4535-B922-85575773C7F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153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5. Document Contr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001000" cy="43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management approv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finalizing document: verification, printing, signature, transmi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confidentiality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storage, archi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producing rep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list of reference documents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宋体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宋体"/>
              </a:rPr>
              <a:t>manu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宋体"/>
              </a:rPr>
              <a:t>boo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宋体"/>
              </a:rPr>
              <a:t>artic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4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81D00F-8A5B-48F6-A744-D476A5E1809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520" y="533520"/>
            <a:ext cx="861084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6. Accommodation and Environmen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761760" y="1523880"/>
            <a:ext cx="80010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map of the laboratory premi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restricted points of ac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laboratory signs or other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environmental requirements for the laboratory (size, temperature, water, electrical, airflow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12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ver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12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tolerated uncertain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AD8D96-13FD-4A0F-B36E-A3DA8910993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7. Instruments, Reagents, and Consumables Management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specify that each instrument requires written procedures, maintenance, quality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re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ordering and rece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valid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stor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consumables or supplies – define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4"/>
          <p:cNvSpPr/>
          <p:nvPr/>
        </p:nvSpPr>
        <p:spPr>
          <a:xfrm>
            <a:off x="457200" y="15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88D603-7C72-49F0-A4B8-C90FA9ACA93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8. Safe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80773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handling of samples and mater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disinf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fire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hazardous chemical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waste dispos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steri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product label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4"/>
          <p:cNvSpPr/>
          <p:nvPr/>
        </p:nvSpPr>
        <p:spPr>
          <a:xfrm>
            <a:off x="45720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1C88B5-6A86-4B48-96F8-4B65F004CA5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3059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9. Preexamination 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392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equipment 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patient prepa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identification of s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liquoting and pretreatment of sampl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trans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75437D-141B-4023-A2B5-1D382E1FDAE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0. Examination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781524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equipment 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reagents 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calibration / quality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nalysis/testing proced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validation techni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1F1D88-A2DF-456E-91BE-526E1D0B69A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6840" y="533520"/>
            <a:ext cx="83818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1. Postexamination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7738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nalysis of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final biological valid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printing/copying report of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transmission of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filing (archiving)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relationships with disease surveillance author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019400-9635-4974-8449-2C3F6B6EF1C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2. Quality Contr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reminder of commitment to 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link to control procedur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1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equi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1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re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1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personnel competenc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summary of all QC procedures and links to the appropriate sections in quality man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4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D32434-83DF-410D-AEFA-BD164BA6B0A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3. Corrective/Preventive Actions, Internal Audits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8229600" cy="358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continuous impro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reviewing and understanding all problems and err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internal audits are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required under the ISO 15189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9F5DA5-5F93-462A-B532-10090C9CF8C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895480" y="456840"/>
            <a:ext cx="3733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ality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2362320" y="1066680"/>
            <a:ext cx="5029200" cy="5105520"/>
            <a:chOff x="2362320" y="1066680"/>
            <a:chExt cx="5029200" cy="5105520"/>
          </a:xfrm>
        </p:grpSpPr>
        <p:sp>
          <p:nvSpPr>
            <p:cNvPr id="131" name="AutoShape 4"/>
            <p:cNvSpPr/>
            <p:nvPr/>
          </p:nvSpPr>
          <p:spPr>
            <a:xfrm>
              <a:off x="2362320" y="1066680"/>
              <a:ext cx="5029200" cy="5105520"/>
            </a:xfrm>
            <a:custGeom>
              <a:avLst/>
              <a:gdLst>
                <a:gd name="textAreaLeft" fmla="*/ 245520 w 5029200"/>
                <a:gd name="textAreaRight" fmla="*/ 4783680 w 5029200"/>
                <a:gd name="textAreaTop" fmla="*/ 245520 h 5105520"/>
                <a:gd name="textAreaBottom" fmla="*/ 4860000 h 5105520"/>
              </a:gdLst>
              <a:ahLst/>
              <a:rect l="textAreaLeft" t="textAreaTop" r="textAreaRight" b="textAreaBottom"/>
              <a:pathLst>
                <a:path w="21600" h="21928">
                  <a:moveTo>
                    <a:pt x="3600" y="0"/>
                  </a:moveTo>
                  <a:arcTo wR="3600" hR="3600" stAng="16200000" swAng="-5400000"/>
                  <a:lnTo>
                    <a:pt x="0" y="18328"/>
                  </a:lnTo>
                  <a:arcTo wR="3600" hR="3600" stAng="10800000" swAng="-5400000"/>
                  <a:lnTo>
                    <a:pt x="18000" y="2192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9"/>
            <p:cNvSpPr/>
            <p:nvPr/>
          </p:nvSpPr>
          <p:spPr>
            <a:xfrm>
              <a:off x="4540680" y="3753720"/>
              <a:ext cx="117000" cy="687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10"/>
            <p:cNvSpPr/>
            <p:nvPr/>
          </p:nvSpPr>
          <p:spPr>
            <a:xfrm>
              <a:off x="4510080" y="3746160"/>
              <a:ext cx="312480" cy="3672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11"/>
            <p:cNvSpPr/>
            <p:nvPr/>
          </p:nvSpPr>
          <p:spPr>
            <a:xfrm>
              <a:off x="4510080" y="3746160"/>
              <a:ext cx="312480" cy="3672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2"/>
            <p:cNvSpPr/>
            <p:nvPr/>
          </p:nvSpPr>
          <p:spPr>
            <a:xfrm>
              <a:off x="4763880" y="2524320"/>
              <a:ext cx="520920" cy="9180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3"/>
            <p:cNvSpPr/>
            <p:nvPr/>
          </p:nvSpPr>
          <p:spPr>
            <a:xfrm>
              <a:off x="4763880" y="2524320"/>
              <a:ext cx="520920" cy="9180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6"/>
            <p:cNvSpPr/>
            <p:nvPr/>
          </p:nvSpPr>
          <p:spPr>
            <a:xfrm>
              <a:off x="3215880" y="3148200"/>
              <a:ext cx="163080" cy="1076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22"/>
            <p:cNvSpPr/>
            <p:nvPr/>
          </p:nvSpPr>
          <p:spPr>
            <a:xfrm>
              <a:off x="3205080" y="3088800"/>
              <a:ext cx="166320" cy="374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Line 24"/>
            <p:cNvSpPr/>
            <p:nvPr/>
          </p:nvSpPr>
          <p:spPr>
            <a:xfrm flipH="1" flipV="1">
              <a:off x="4938480" y="5791680"/>
              <a:ext cx="10800" cy="439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Line 25"/>
            <p:cNvSpPr/>
            <p:nvPr/>
          </p:nvSpPr>
          <p:spPr>
            <a:xfrm flipV="1">
              <a:off x="4683960" y="4685760"/>
              <a:ext cx="1440" cy="982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27"/>
            <p:cNvSpPr/>
            <p:nvPr/>
          </p:nvSpPr>
          <p:spPr>
            <a:xfrm>
              <a:off x="6429600" y="1695240"/>
              <a:ext cx="1440" cy="38685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7"/>
            <p:cNvSpPr/>
            <p:nvPr/>
          </p:nvSpPr>
          <p:spPr>
            <a:xfrm>
              <a:off x="4876560" y="1845360"/>
              <a:ext cx="144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7"/>
            <p:cNvSpPr/>
            <p:nvPr/>
          </p:nvSpPr>
          <p:spPr>
            <a:xfrm>
              <a:off x="3249720" y="1892160"/>
              <a:ext cx="108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7"/>
            <p:cNvSpPr/>
            <p:nvPr/>
          </p:nvSpPr>
          <p:spPr>
            <a:xfrm flipH="1">
              <a:off x="2953800" y="1740600"/>
              <a:ext cx="38102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5" name="Group 65"/>
            <p:cNvGrpSpPr/>
            <p:nvPr/>
          </p:nvGrpSpPr>
          <p:grpSpPr>
            <a:xfrm>
              <a:off x="2657880" y="1154160"/>
              <a:ext cx="1224360" cy="1122840"/>
              <a:chOff x="2657880" y="1154160"/>
              <a:chExt cx="1224360" cy="1122840"/>
            </a:xfrm>
          </p:grpSpPr>
          <p:grpSp>
            <p:nvGrpSpPr>
              <p:cNvPr id="146" name="Group 66"/>
              <p:cNvGrpSpPr/>
              <p:nvPr/>
            </p:nvGrpSpPr>
            <p:grpSpPr>
              <a:xfrm>
                <a:off x="2657880" y="1154160"/>
                <a:ext cx="1202400" cy="1122840"/>
                <a:chOff x="2657880" y="1154160"/>
                <a:chExt cx="1202400" cy="1122840"/>
              </a:xfrm>
            </p:grpSpPr>
            <p:grpSp>
              <p:nvGrpSpPr>
                <p:cNvPr id="147" name="Group 67"/>
                <p:cNvGrpSpPr/>
                <p:nvPr/>
              </p:nvGrpSpPr>
              <p:grpSpPr>
                <a:xfrm>
                  <a:off x="2707920" y="1154160"/>
                  <a:ext cx="1118520" cy="1122840"/>
                  <a:chOff x="2707920" y="1154160"/>
                  <a:chExt cx="1118520" cy="1122840"/>
                </a:xfrm>
              </p:grpSpPr>
              <p:sp>
                <p:nvSpPr>
                  <p:cNvPr id="148" name="Freeform 68"/>
                  <p:cNvSpPr/>
                  <p:nvPr/>
                </p:nvSpPr>
                <p:spPr>
                  <a:xfrm>
                    <a:off x="2707920" y="1154160"/>
                    <a:ext cx="1118520" cy="112284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" name="Freeform 69"/>
                  <p:cNvSpPr/>
                  <p:nvPr/>
                </p:nvSpPr>
                <p:spPr>
                  <a:xfrm>
                    <a:off x="2707920" y="1154160"/>
                    <a:ext cx="1118520" cy="112284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0" name="Text Box 70"/>
                <p:cNvSpPr/>
                <p:nvPr/>
              </p:nvSpPr>
              <p:spPr>
                <a:xfrm>
                  <a:off x="2657880" y="1413000"/>
                  <a:ext cx="120240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1" name="Text Box 71"/>
              <p:cNvSpPr/>
              <p:nvPr/>
            </p:nvSpPr>
            <p:spPr>
              <a:xfrm>
                <a:off x="2679840" y="1552320"/>
                <a:ext cx="1202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" name="Group 72"/>
            <p:cNvGrpSpPr/>
            <p:nvPr/>
          </p:nvGrpSpPr>
          <p:grpSpPr>
            <a:xfrm>
              <a:off x="4264920" y="1154160"/>
              <a:ext cx="1203120" cy="1122840"/>
              <a:chOff x="4264920" y="1154160"/>
              <a:chExt cx="1203120" cy="1122840"/>
            </a:xfrm>
          </p:grpSpPr>
          <p:sp>
            <p:nvSpPr>
              <p:cNvPr id="153" name="Freeform 73"/>
              <p:cNvSpPr/>
              <p:nvPr/>
            </p:nvSpPr>
            <p:spPr>
              <a:xfrm>
                <a:off x="4304520" y="1154160"/>
                <a:ext cx="1118880" cy="112284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 Box 74"/>
              <p:cNvSpPr/>
              <p:nvPr/>
            </p:nvSpPr>
            <p:spPr>
              <a:xfrm>
                <a:off x="4264920" y="1552320"/>
                <a:ext cx="1203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5" name="Group 75"/>
            <p:cNvGrpSpPr/>
            <p:nvPr/>
          </p:nvGrpSpPr>
          <p:grpSpPr>
            <a:xfrm>
              <a:off x="5818320" y="1154160"/>
              <a:ext cx="1203120" cy="1122840"/>
              <a:chOff x="5818320" y="1154160"/>
              <a:chExt cx="1203120" cy="1122840"/>
            </a:xfrm>
          </p:grpSpPr>
          <p:grpSp>
            <p:nvGrpSpPr>
              <p:cNvPr id="156" name="Group 76"/>
              <p:cNvGrpSpPr/>
              <p:nvPr/>
            </p:nvGrpSpPr>
            <p:grpSpPr>
              <a:xfrm>
                <a:off x="5862240" y="1154160"/>
                <a:ext cx="1118880" cy="1122840"/>
                <a:chOff x="5862240" y="1154160"/>
                <a:chExt cx="1118880" cy="1122840"/>
              </a:xfrm>
            </p:grpSpPr>
            <p:sp>
              <p:nvSpPr>
                <p:cNvPr id="157" name="Freeform 77"/>
                <p:cNvSpPr/>
                <p:nvPr/>
              </p:nvSpPr>
              <p:spPr>
                <a:xfrm>
                  <a:off x="5862240" y="1154160"/>
                  <a:ext cx="1118880" cy="112284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" name="Freeform 78"/>
                <p:cNvSpPr/>
                <p:nvPr/>
              </p:nvSpPr>
              <p:spPr>
                <a:xfrm>
                  <a:off x="5862240" y="1154160"/>
                  <a:ext cx="1118880" cy="112284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9" name="Text Box 79"/>
              <p:cNvSpPr/>
              <p:nvPr/>
            </p:nvSpPr>
            <p:spPr>
              <a:xfrm>
                <a:off x="5818320" y="1556640"/>
                <a:ext cx="1203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0" name="Line 27"/>
            <p:cNvSpPr/>
            <p:nvPr/>
          </p:nvSpPr>
          <p:spPr>
            <a:xfrm flipH="1">
              <a:off x="3027960" y="301716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" name=""/>
            <p:cNvGrpSpPr/>
            <p:nvPr/>
          </p:nvGrpSpPr>
          <p:grpSpPr>
            <a:xfrm>
              <a:off x="2657880" y="2418120"/>
              <a:ext cx="1204920" cy="1122840"/>
              <a:chOff x="2657880" y="2418120"/>
              <a:chExt cx="1204920" cy="1122840"/>
            </a:xfrm>
          </p:grpSpPr>
          <p:sp>
            <p:nvSpPr>
              <p:cNvPr id="162" name="Freeform 46"/>
              <p:cNvSpPr/>
              <p:nvPr/>
            </p:nvSpPr>
            <p:spPr>
              <a:xfrm>
                <a:off x="2662200" y="2418120"/>
                <a:ext cx="112140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Text Box 47"/>
              <p:cNvSpPr/>
              <p:nvPr/>
            </p:nvSpPr>
            <p:spPr>
              <a:xfrm>
                <a:off x="2657880" y="2688480"/>
                <a:ext cx="12049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4" name="Freeform 31"/>
            <p:cNvSpPr/>
            <p:nvPr/>
          </p:nvSpPr>
          <p:spPr>
            <a:xfrm>
              <a:off x="4312440" y="2477160"/>
              <a:ext cx="111852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 Box 43"/>
            <p:cNvSpPr/>
            <p:nvPr/>
          </p:nvSpPr>
          <p:spPr>
            <a:xfrm>
              <a:off x="4351320" y="2493000"/>
              <a:ext cx="111708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6" name=""/>
            <p:cNvGrpSpPr/>
            <p:nvPr/>
          </p:nvGrpSpPr>
          <p:grpSpPr>
            <a:xfrm>
              <a:off x="5763960" y="2435040"/>
              <a:ext cx="1297080" cy="1122840"/>
              <a:chOff x="5763960" y="2435040"/>
              <a:chExt cx="1297080" cy="1122840"/>
            </a:xfrm>
          </p:grpSpPr>
          <p:sp>
            <p:nvSpPr>
              <p:cNvPr id="167" name="Freeform 48"/>
              <p:cNvSpPr/>
              <p:nvPr/>
            </p:nvSpPr>
            <p:spPr>
              <a:xfrm>
                <a:off x="5837760" y="2435040"/>
                <a:ext cx="111996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Text Box 55"/>
              <p:cNvSpPr/>
              <p:nvPr/>
            </p:nvSpPr>
            <p:spPr>
              <a:xfrm>
                <a:off x="5763960" y="2718000"/>
                <a:ext cx="12970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9" name="Line 27"/>
            <p:cNvSpPr/>
            <p:nvPr/>
          </p:nvSpPr>
          <p:spPr>
            <a:xfrm flipH="1">
              <a:off x="2953800" y="421992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" name=""/>
            <p:cNvGrpSpPr/>
            <p:nvPr/>
          </p:nvGrpSpPr>
          <p:grpSpPr>
            <a:xfrm>
              <a:off x="2657880" y="3700800"/>
              <a:ext cx="1203120" cy="1124280"/>
              <a:chOff x="2657880" y="3700800"/>
              <a:chExt cx="1203120" cy="1124280"/>
            </a:xfrm>
          </p:grpSpPr>
          <p:sp>
            <p:nvSpPr>
              <p:cNvPr id="171" name="Freeform 81"/>
              <p:cNvSpPr/>
              <p:nvPr/>
            </p:nvSpPr>
            <p:spPr>
              <a:xfrm>
                <a:off x="2688840" y="3700800"/>
                <a:ext cx="111960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Text Box 82"/>
              <p:cNvSpPr/>
              <p:nvPr/>
            </p:nvSpPr>
            <p:spPr>
              <a:xfrm>
                <a:off x="2657880" y="3919320"/>
                <a:ext cx="12031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" name=""/>
            <p:cNvGrpSpPr/>
            <p:nvPr/>
          </p:nvGrpSpPr>
          <p:grpSpPr>
            <a:xfrm>
              <a:off x="4264920" y="3700800"/>
              <a:ext cx="1203120" cy="1124280"/>
              <a:chOff x="4264920" y="3700800"/>
              <a:chExt cx="1203120" cy="1124280"/>
            </a:xfrm>
          </p:grpSpPr>
          <p:sp>
            <p:nvSpPr>
              <p:cNvPr id="174" name="Freeform 30"/>
              <p:cNvSpPr/>
              <p:nvPr/>
            </p:nvSpPr>
            <p:spPr>
              <a:xfrm>
                <a:off x="4290840" y="3700800"/>
                <a:ext cx="111996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Text Box 54"/>
              <p:cNvSpPr/>
              <p:nvPr/>
            </p:nvSpPr>
            <p:spPr>
              <a:xfrm>
                <a:off x="4264920" y="3936960"/>
                <a:ext cx="12031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6" name="Freeform 50"/>
            <p:cNvSpPr/>
            <p:nvPr/>
          </p:nvSpPr>
          <p:spPr>
            <a:xfrm>
              <a:off x="5838120" y="3694320"/>
              <a:ext cx="111996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Text Box 51"/>
            <p:cNvSpPr/>
            <p:nvPr/>
          </p:nvSpPr>
          <p:spPr>
            <a:xfrm>
              <a:off x="5818320" y="3769560"/>
              <a:ext cx="120312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e 27"/>
            <p:cNvSpPr/>
            <p:nvPr/>
          </p:nvSpPr>
          <p:spPr>
            <a:xfrm flipH="1">
              <a:off x="3027960" y="549468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9" name=""/>
            <p:cNvGrpSpPr/>
            <p:nvPr/>
          </p:nvGrpSpPr>
          <p:grpSpPr>
            <a:xfrm>
              <a:off x="2584080" y="4973760"/>
              <a:ext cx="1378800" cy="1122840"/>
              <a:chOff x="2584080" y="4973760"/>
              <a:chExt cx="1378800" cy="1122840"/>
            </a:xfrm>
          </p:grpSpPr>
          <p:sp>
            <p:nvSpPr>
              <p:cNvPr id="180" name="Freeform 57"/>
              <p:cNvSpPr/>
              <p:nvPr/>
            </p:nvSpPr>
            <p:spPr>
              <a:xfrm>
                <a:off x="2728440" y="4973760"/>
                <a:ext cx="111852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Text Box 58"/>
              <p:cNvSpPr/>
              <p:nvPr/>
            </p:nvSpPr>
            <p:spPr>
              <a:xfrm>
                <a:off x="2584080" y="5195520"/>
                <a:ext cx="13788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4264920" y="4909680"/>
              <a:ext cx="1203120" cy="1123200"/>
              <a:chOff x="4264920" y="4909680"/>
              <a:chExt cx="1203120" cy="1123200"/>
            </a:xfrm>
          </p:grpSpPr>
          <p:sp>
            <p:nvSpPr>
              <p:cNvPr id="183" name="Freeform 34"/>
              <p:cNvSpPr/>
              <p:nvPr/>
            </p:nvSpPr>
            <p:spPr>
              <a:xfrm>
                <a:off x="4312080" y="4909680"/>
                <a:ext cx="1118520" cy="11232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Text Box 61"/>
              <p:cNvSpPr/>
              <p:nvPr/>
            </p:nvSpPr>
            <p:spPr>
              <a:xfrm>
                <a:off x="4264920" y="5195880"/>
                <a:ext cx="12031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" name=""/>
            <p:cNvGrpSpPr/>
            <p:nvPr/>
          </p:nvGrpSpPr>
          <p:grpSpPr>
            <a:xfrm>
              <a:off x="5838120" y="4973760"/>
              <a:ext cx="1203120" cy="1122840"/>
              <a:chOff x="5838120" y="4973760"/>
              <a:chExt cx="1203120" cy="1122840"/>
            </a:xfrm>
          </p:grpSpPr>
          <p:sp>
            <p:nvSpPr>
              <p:cNvPr id="186" name="Freeform 63"/>
              <p:cNvSpPr/>
              <p:nvPr/>
            </p:nvSpPr>
            <p:spPr>
              <a:xfrm>
                <a:off x="5856480" y="4973760"/>
                <a:ext cx="111996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Text Box 64"/>
              <p:cNvSpPr/>
              <p:nvPr/>
            </p:nvSpPr>
            <p:spPr>
              <a:xfrm>
                <a:off x="5838120" y="5195520"/>
                <a:ext cx="12031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AF4F4F-9DEF-4E3C-BD20-5751ADB83E8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ructure of Docu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ality Manual (Specify Polici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c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ork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5638680" y="2438280"/>
            <a:ext cx="3124440" cy="2935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308BB8-00CC-4934-AC0D-B7CE06ADC88C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Document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" name="Group 3"/>
          <p:cNvGrpSpPr/>
          <p:nvPr/>
        </p:nvGrpSpPr>
        <p:grpSpPr>
          <a:xfrm>
            <a:off x="4343400" y="4038480"/>
            <a:ext cx="2819160" cy="1981440"/>
            <a:chOff x="4343400" y="4038480"/>
            <a:chExt cx="2819160" cy="1981440"/>
          </a:xfrm>
        </p:grpSpPr>
        <p:sp>
          <p:nvSpPr>
            <p:cNvPr id="238" name="Text Box 4"/>
            <p:cNvSpPr/>
            <p:nvPr/>
          </p:nvSpPr>
          <p:spPr>
            <a:xfrm>
              <a:off x="5410080" y="4038480"/>
              <a:ext cx="7621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Q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Oval 5"/>
            <p:cNvSpPr/>
            <p:nvPr/>
          </p:nvSpPr>
          <p:spPr>
            <a:xfrm>
              <a:off x="4343400" y="4038480"/>
              <a:ext cx="2819160" cy="19814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Oval 6"/>
            <p:cNvSpPr/>
            <p:nvPr/>
          </p:nvSpPr>
          <p:spPr>
            <a:xfrm>
              <a:off x="4419360" y="4419720"/>
              <a:ext cx="1295640" cy="1143000"/>
            </a:xfrm>
            <a:prstGeom prst="ellipse">
              <a:avLst/>
            </a:prstGeom>
            <a:solidFill>
              <a:srgbClr val="00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Oval 7"/>
            <p:cNvSpPr/>
            <p:nvPr/>
          </p:nvSpPr>
          <p:spPr>
            <a:xfrm>
              <a:off x="5790960" y="4495680"/>
              <a:ext cx="1295640" cy="114300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Text Box 8"/>
            <p:cNvSpPr/>
            <p:nvPr/>
          </p:nvSpPr>
          <p:spPr>
            <a:xfrm>
              <a:off x="4495680" y="472428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Q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Text Box 9"/>
            <p:cNvSpPr/>
            <p:nvPr/>
          </p:nvSpPr>
          <p:spPr>
            <a:xfrm>
              <a:off x="5790960" y="461628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Specific SOP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" name="Group 10"/>
          <p:cNvGrpSpPr/>
          <p:nvPr/>
        </p:nvGrpSpPr>
        <p:grpSpPr>
          <a:xfrm>
            <a:off x="2971800" y="1676520"/>
            <a:ext cx="1523880" cy="1066680"/>
            <a:chOff x="2971800" y="1676520"/>
            <a:chExt cx="1523880" cy="1066680"/>
          </a:xfrm>
        </p:grpSpPr>
        <p:sp>
          <p:nvSpPr>
            <p:cNvPr id="245" name="Oval 11"/>
            <p:cNvSpPr/>
            <p:nvPr/>
          </p:nvSpPr>
          <p:spPr>
            <a:xfrm>
              <a:off x="2971800" y="1676520"/>
              <a:ext cx="129528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Text Box 12"/>
            <p:cNvSpPr/>
            <p:nvPr/>
          </p:nvSpPr>
          <p:spPr>
            <a:xfrm>
              <a:off x="2971800" y="198144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Manual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Group 13"/>
          <p:cNvGrpSpPr/>
          <p:nvPr/>
        </p:nvGrpSpPr>
        <p:grpSpPr>
          <a:xfrm>
            <a:off x="1143000" y="3886200"/>
            <a:ext cx="1371600" cy="1066680"/>
            <a:chOff x="1143000" y="3886200"/>
            <a:chExt cx="1371600" cy="1066680"/>
          </a:xfrm>
        </p:grpSpPr>
        <p:sp>
          <p:nvSpPr>
            <p:cNvPr id="248" name="Text Box 14"/>
            <p:cNvSpPr/>
            <p:nvPr/>
          </p:nvSpPr>
          <p:spPr>
            <a:xfrm>
              <a:off x="1295640" y="4191120"/>
              <a:ext cx="12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Book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Oval 15"/>
            <p:cNvSpPr/>
            <p:nvPr/>
          </p:nvSpPr>
          <p:spPr>
            <a:xfrm>
              <a:off x="1143000" y="3886200"/>
              <a:ext cx="129564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Group 16"/>
          <p:cNvGrpSpPr/>
          <p:nvPr/>
        </p:nvGrpSpPr>
        <p:grpSpPr>
          <a:xfrm>
            <a:off x="1600200" y="2514600"/>
            <a:ext cx="1295280" cy="1066680"/>
            <a:chOff x="1600200" y="2514600"/>
            <a:chExt cx="1295280" cy="1066680"/>
          </a:xfrm>
        </p:grpSpPr>
        <p:sp>
          <p:nvSpPr>
            <p:cNvPr id="251" name="Text Box 17"/>
            <p:cNvSpPr/>
            <p:nvPr/>
          </p:nvSpPr>
          <p:spPr>
            <a:xfrm>
              <a:off x="1676160" y="281916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rticl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Oval 18"/>
            <p:cNvSpPr/>
            <p:nvPr/>
          </p:nvSpPr>
          <p:spPr>
            <a:xfrm>
              <a:off x="1600200" y="2514600"/>
              <a:ext cx="129528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" name="Group 19"/>
          <p:cNvGrpSpPr/>
          <p:nvPr/>
        </p:nvGrpSpPr>
        <p:grpSpPr>
          <a:xfrm>
            <a:off x="4495680" y="1371600"/>
            <a:ext cx="1523880" cy="1038240"/>
            <a:chOff x="4495680" y="1371600"/>
            <a:chExt cx="1523880" cy="1038240"/>
          </a:xfrm>
        </p:grpSpPr>
        <p:sp>
          <p:nvSpPr>
            <p:cNvPr id="254" name="Text Box 20"/>
            <p:cNvSpPr/>
            <p:nvPr/>
          </p:nvSpPr>
          <p:spPr>
            <a:xfrm>
              <a:off x="4495680" y="1571400"/>
              <a:ext cx="1523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s and law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Oval 21"/>
            <p:cNvSpPr/>
            <p:nvPr/>
          </p:nvSpPr>
          <p:spPr>
            <a:xfrm>
              <a:off x="4552920" y="1371600"/>
              <a:ext cx="1447560" cy="10382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" name="Group 22"/>
          <p:cNvGrpSpPr/>
          <p:nvPr/>
        </p:nvGrpSpPr>
        <p:grpSpPr>
          <a:xfrm>
            <a:off x="1371600" y="5257800"/>
            <a:ext cx="1523880" cy="1066680"/>
            <a:chOff x="1371600" y="5257800"/>
            <a:chExt cx="1523880" cy="1066680"/>
          </a:xfrm>
        </p:grpSpPr>
        <p:sp>
          <p:nvSpPr>
            <p:cNvPr id="257" name="Oval 23"/>
            <p:cNvSpPr/>
            <p:nvPr/>
          </p:nvSpPr>
          <p:spPr>
            <a:xfrm>
              <a:off x="1476000" y="5257800"/>
              <a:ext cx="129528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Text Box 24"/>
            <p:cNvSpPr/>
            <p:nvPr/>
          </p:nvSpPr>
          <p:spPr>
            <a:xfrm>
              <a:off x="1371600" y="556236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Oth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" name="Line 25"/>
          <p:cNvSpPr/>
          <p:nvPr/>
        </p:nvSpPr>
        <p:spPr>
          <a:xfrm flipH="1">
            <a:off x="2819520" y="5410080"/>
            <a:ext cx="3124080" cy="22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26"/>
          <p:cNvSpPr/>
          <p:nvPr/>
        </p:nvSpPr>
        <p:spPr>
          <a:xfrm flipH="1" flipV="1">
            <a:off x="2438280" y="4495680"/>
            <a:ext cx="19814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27"/>
          <p:cNvSpPr/>
          <p:nvPr/>
        </p:nvSpPr>
        <p:spPr>
          <a:xfrm flipV="1">
            <a:off x="5105520" y="2438280"/>
            <a:ext cx="75960" cy="198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28"/>
          <p:cNvSpPr/>
          <p:nvPr/>
        </p:nvSpPr>
        <p:spPr>
          <a:xfrm flipH="1" flipV="1">
            <a:off x="2895120" y="3428640"/>
            <a:ext cx="3124440" cy="1219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29"/>
          <p:cNvSpPr/>
          <p:nvPr/>
        </p:nvSpPr>
        <p:spPr>
          <a:xfrm flipH="1" flipV="1">
            <a:off x="3885840" y="2666880"/>
            <a:ext cx="2438280" cy="1828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30"/>
          <p:cNvSpPr/>
          <p:nvPr/>
        </p:nvSpPr>
        <p:spPr>
          <a:xfrm flipH="1" flipV="1">
            <a:off x="2743200" y="3504960"/>
            <a:ext cx="1905120" cy="1143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31"/>
          <p:cNvSpPr/>
          <p:nvPr/>
        </p:nvSpPr>
        <p:spPr>
          <a:xfrm flipH="1" flipV="1">
            <a:off x="5409720" y="2437920"/>
            <a:ext cx="685800" cy="2133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32"/>
          <p:cNvSpPr/>
          <p:nvPr/>
        </p:nvSpPr>
        <p:spPr>
          <a:xfrm flipH="1">
            <a:off x="2514240" y="5257800"/>
            <a:ext cx="1981080" cy="152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33"/>
          <p:cNvSpPr/>
          <p:nvPr/>
        </p:nvSpPr>
        <p:spPr>
          <a:xfrm flipH="1" flipV="1">
            <a:off x="2361960" y="4800240"/>
            <a:ext cx="342900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172200" y="2144880"/>
            <a:ext cx="297180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To avoid overloading the Q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Documentation list + simple numb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Links to docu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7E21CD-3105-460E-A27E-130113246DD9}" type="slidenum">
              <a:t>21</a:t>
            </a:fld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000"/>
                            </p:stCondLst>
                            <p:childTnLst>
                              <p:par>
                                <p:cTn id="8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3500"/>
                            </p:stCondLst>
                            <p:childTnLst>
                              <p:par>
                                <p:cTn id="8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0"/>
                            </p:stCondLst>
                            <p:childTnLst>
                              <p:par>
                                <p:cTn id="9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65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8000"/>
                            </p:stCondLst>
                            <p:childTnLst>
                              <p:par>
                                <p:cTn id="9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9500"/>
                            </p:stCondLst>
                            <p:childTnLst>
                              <p:par>
                                <p:cTn id="10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1000"/>
                            </p:stCondLst>
                            <p:childTnLst>
                              <p:par>
                                <p:cTn id="10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2500"/>
                            </p:stCondLst>
                            <p:childTnLst>
                              <p:par>
                                <p:cTn id="10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4000"/>
                            </p:stCondLst>
                            <p:childTnLst>
                              <p:par>
                                <p:cTn id="10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5500"/>
                            </p:stCondLst>
                            <p:childTnLst>
                              <p:par>
                                <p:cTn id="11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7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re is only ONE official version of the Quality Manu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quality manual is never finished; it is always being improv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t should be read, understood, and accepted by everyon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t should be written in clear, easily-understood langua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quality manual should be dated and signed by manage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tandardized page-headers should be used, and the version of each procedure should be not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eveloping a quality manual is a very big job, but it is also very rewarding and useful for the laborato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65E2BB-5DCF-4CFB-ABFF-EDB4B2D9911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715000" y="685440"/>
            <a:ext cx="3124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457200" y="762120"/>
            <a:ext cx="5029200" cy="5105160"/>
            <a:chOff x="457200" y="762120"/>
            <a:chExt cx="5029200" cy="5105160"/>
          </a:xfrm>
        </p:grpSpPr>
        <p:sp>
          <p:nvSpPr>
            <p:cNvPr id="273" name="AutoShape 4"/>
            <p:cNvSpPr/>
            <p:nvPr/>
          </p:nvSpPr>
          <p:spPr>
            <a:xfrm>
              <a:off x="457200" y="762120"/>
              <a:ext cx="5029200" cy="5105160"/>
            </a:xfrm>
            <a:custGeom>
              <a:avLst/>
              <a:gdLst>
                <a:gd name="textAreaLeft" fmla="*/ 245520 w 5029200"/>
                <a:gd name="textAreaRight" fmla="*/ 4783680 w 5029200"/>
                <a:gd name="textAreaTop" fmla="*/ 245520 h 5105160"/>
                <a:gd name="textAreaBottom" fmla="*/ 4859640 h 5105160"/>
              </a:gdLst>
              <a:ahLst/>
              <a:rect l="textAreaLeft" t="textAreaTop" r="textAreaRight" b="textAreaBottom"/>
              <a:pathLst>
                <a:path w="21600" h="21926">
                  <a:moveTo>
                    <a:pt x="3600" y="0"/>
                  </a:moveTo>
                  <a:arcTo wR="3600" hR="3600" stAng="16200000" swAng="-5400000"/>
                  <a:lnTo>
                    <a:pt x="0" y="18326"/>
                  </a:lnTo>
                  <a:arcTo wR="3600" hR="3600" stAng="10800000" swAng="-5400000"/>
                  <a:lnTo>
                    <a:pt x="18000" y="2192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9"/>
            <p:cNvSpPr/>
            <p:nvPr/>
          </p:nvSpPr>
          <p:spPr>
            <a:xfrm>
              <a:off x="2635560" y="3449160"/>
              <a:ext cx="117000" cy="687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10"/>
            <p:cNvSpPr/>
            <p:nvPr/>
          </p:nvSpPr>
          <p:spPr>
            <a:xfrm>
              <a:off x="2604960" y="3441240"/>
              <a:ext cx="312480" cy="3672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11"/>
            <p:cNvSpPr/>
            <p:nvPr/>
          </p:nvSpPr>
          <p:spPr>
            <a:xfrm>
              <a:off x="2604960" y="3441240"/>
              <a:ext cx="312480" cy="3672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12"/>
            <p:cNvSpPr/>
            <p:nvPr/>
          </p:nvSpPr>
          <p:spPr>
            <a:xfrm>
              <a:off x="2858760" y="2219760"/>
              <a:ext cx="520920" cy="9176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13"/>
            <p:cNvSpPr/>
            <p:nvPr/>
          </p:nvSpPr>
          <p:spPr>
            <a:xfrm>
              <a:off x="2858760" y="2219760"/>
              <a:ext cx="520920" cy="91764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16"/>
            <p:cNvSpPr/>
            <p:nvPr/>
          </p:nvSpPr>
          <p:spPr>
            <a:xfrm>
              <a:off x="1310760" y="2843640"/>
              <a:ext cx="163080" cy="1076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22"/>
            <p:cNvSpPr/>
            <p:nvPr/>
          </p:nvSpPr>
          <p:spPr>
            <a:xfrm>
              <a:off x="1299960" y="2784240"/>
              <a:ext cx="166320" cy="374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Line 24"/>
            <p:cNvSpPr/>
            <p:nvPr/>
          </p:nvSpPr>
          <p:spPr>
            <a:xfrm flipH="1" flipV="1">
              <a:off x="3033360" y="5486760"/>
              <a:ext cx="10800" cy="439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Line 25"/>
            <p:cNvSpPr/>
            <p:nvPr/>
          </p:nvSpPr>
          <p:spPr>
            <a:xfrm flipV="1">
              <a:off x="2778840" y="4380840"/>
              <a:ext cx="1440" cy="982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Line 27"/>
            <p:cNvSpPr/>
            <p:nvPr/>
          </p:nvSpPr>
          <p:spPr>
            <a:xfrm>
              <a:off x="4524480" y="1390320"/>
              <a:ext cx="144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Line 27"/>
            <p:cNvSpPr/>
            <p:nvPr/>
          </p:nvSpPr>
          <p:spPr>
            <a:xfrm>
              <a:off x="2971440" y="1540800"/>
              <a:ext cx="1440" cy="38678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Line 27"/>
            <p:cNvSpPr/>
            <p:nvPr/>
          </p:nvSpPr>
          <p:spPr>
            <a:xfrm>
              <a:off x="1344600" y="1587600"/>
              <a:ext cx="1080" cy="38678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Line 27"/>
            <p:cNvSpPr/>
            <p:nvPr/>
          </p:nvSpPr>
          <p:spPr>
            <a:xfrm flipH="1">
              <a:off x="1048680" y="1436040"/>
              <a:ext cx="38102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7" name="Group 65"/>
            <p:cNvGrpSpPr/>
            <p:nvPr/>
          </p:nvGrpSpPr>
          <p:grpSpPr>
            <a:xfrm>
              <a:off x="752760" y="849600"/>
              <a:ext cx="1224360" cy="1122840"/>
              <a:chOff x="752760" y="849600"/>
              <a:chExt cx="1224360" cy="1122840"/>
            </a:xfrm>
          </p:grpSpPr>
          <p:grpSp>
            <p:nvGrpSpPr>
              <p:cNvPr id="288" name="Group 66"/>
              <p:cNvGrpSpPr/>
              <p:nvPr/>
            </p:nvGrpSpPr>
            <p:grpSpPr>
              <a:xfrm>
                <a:off x="752760" y="849600"/>
                <a:ext cx="1202400" cy="1122840"/>
                <a:chOff x="752760" y="849600"/>
                <a:chExt cx="1202400" cy="112284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802800" y="849600"/>
                  <a:ext cx="1118520" cy="1122840"/>
                  <a:chOff x="802800" y="849600"/>
                  <a:chExt cx="1118520" cy="1122840"/>
                </a:xfrm>
              </p:grpSpPr>
              <p:sp>
                <p:nvSpPr>
                  <p:cNvPr id="290" name="Freeform 68"/>
                  <p:cNvSpPr/>
                  <p:nvPr/>
                </p:nvSpPr>
                <p:spPr>
                  <a:xfrm>
                    <a:off x="802800" y="849600"/>
                    <a:ext cx="1118520" cy="112284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802800" y="849600"/>
                    <a:ext cx="1118520" cy="112284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Text Box 70"/>
                <p:cNvSpPr/>
                <p:nvPr/>
              </p:nvSpPr>
              <p:spPr>
                <a:xfrm>
                  <a:off x="752760" y="1108440"/>
                  <a:ext cx="120240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3" name="Text Box 71"/>
              <p:cNvSpPr/>
              <p:nvPr/>
            </p:nvSpPr>
            <p:spPr>
              <a:xfrm>
                <a:off x="774720" y="1247760"/>
                <a:ext cx="1202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4" name="Group 72"/>
            <p:cNvGrpSpPr/>
            <p:nvPr/>
          </p:nvGrpSpPr>
          <p:grpSpPr>
            <a:xfrm>
              <a:off x="2359800" y="849600"/>
              <a:ext cx="1203120" cy="1122840"/>
              <a:chOff x="2359800" y="849600"/>
              <a:chExt cx="1203120" cy="1122840"/>
            </a:xfrm>
          </p:grpSpPr>
          <p:sp>
            <p:nvSpPr>
              <p:cNvPr id="295" name="Freeform 73"/>
              <p:cNvSpPr/>
              <p:nvPr/>
            </p:nvSpPr>
            <p:spPr>
              <a:xfrm>
                <a:off x="2399400" y="849600"/>
                <a:ext cx="1118880" cy="112284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Text Box 74"/>
              <p:cNvSpPr/>
              <p:nvPr/>
            </p:nvSpPr>
            <p:spPr>
              <a:xfrm>
                <a:off x="2359800" y="1247760"/>
                <a:ext cx="1203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75"/>
            <p:cNvGrpSpPr/>
            <p:nvPr/>
          </p:nvGrpSpPr>
          <p:grpSpPr>
            <a:xfrm>
              <a:off x="3913200" y="849600"/>
              <a:ext cx="1203120" cy="1122840"/>
              <a:chOff x="3913200" y="849600"/>
              <a:chExt cx="1203120" cy="1122840"/>
            </a:xfrm>
          </p:grpSpPr>
          <p:grpSp>
            <p:nvGrpSpPr>
              <p:cNvPr id="298" name="Group 76"/>
              <p:cNvGrpSpPr/>
              <p:nvPr/>
            </p:nvGrpSpPr>
            <p:grpSpPr>
              <a:xfrm>
                <a:off x="3957120" y="849600"/>
                <a:ext cx="1118880" cy="1122840"/>
                <a:chOff x="3957120" y="849600"/>
                <a:chExt cx="1118880" cy="1122840"/>
              </a:xfrm>
            </p:grpSpPr>
            <p:sp>
              <p:nvSpPr>
                <p:cNvPr id="299" name="Freeform 77"/>
                <p:cNvSpPr/>
                <p:nvPr/>
              </p:nvSpPr>
              <p:spPr>
                <a:xfrm>
                  <a:off x="3957120" y="849600"/>
                  <a:ext cx="1118880" cy="112284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" name="Freeform 78"/>
                <p:cNvSpPr/>
                <p:nvPr/>
              </p:nvSpPr>
              <p:spPr>
                <a:xfrm>
                  <a:off x="3957120" y="849600"/>
                  <a:ext cx="1118880" cy="112284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1" name="Text Box 79"/>
              <p:cNvSpPr/>
              <p:nvPr/>
            </p:nvSpPr>
            <p:spPr>
              <a:xfrm>
                <a:off x="3913200" y="1252080"/>
                <a:ext cx="1203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2" name="Line 27"/>
            <p:cNvSpPr/>
            <p:nvPr/>
          </p:nvSpPr>
          <p:spPr>
            <a:xfrm flipH="1">
              <a:off x="1122840" y="271260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3" name=""/>
            <p:cNvGrpSpPr/>
            <p:nvPr/>
          </p:nvGrpSpPr>
          <p:grpSpPr>
            <a:xfrm>
              <a:off x="752760" y="2113200"/>
              <a:ext cx="1204920" cy="1122840"/>
              <a:chOff x="752760" y="2113200"/>
              <a:chExt cx="1204920" cy="1122840"/>
            </a:xfrm>
          </p:grpSpPr>
          <p:sp>
            <p:nvSpPr>
              <p:cNvPr id="304" name="Freeform 46"/>
              <p:cNvSpPr/>
              <p:nvPr/>
            </p:nvSpPr>
            <p:spPr>
              <a:xfrm>
                <a:off x="757080" y="2113200"/>
                <a:ext cx="112140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Text Box 47"/>
              <p:cNvSpPr/>
              <p:nvPr/>
            </p:nvSpPr>
            <p:spPr>
              <a:xfrm>
                <a:off x="752760" y="2383560"/>
                <a:ext cx="12049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6" name="Freeform 31"/>
            <p:cNvSpPr/>
            <p:nvPr/>
          </p:nvSpPr>
          <p:spPr>
            <a:xfrm>
              <a:off x="2407320" y="2172600"/>
              <a:ext cx="111852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Text Box 43"/>
            <p:cNvSpPr/>
            <p:nvPr/>
          </p:nvSpPr>
          <p:spPr>
            <a:xfrm>
              <a:off x="2446200" y="2188080"/>
              <a:ext cx="111708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8" name=""/>
            <p:cNvGrpSpPr/>
            <p:nvPr/>
          </p:nvGrpSpPr>
          <p:grpSpPr>
            <a:xfrm>
              <a:off x="3858840" y="2130480"/>
              <a:ext cx="1297080" cy="1122840"/>
              <a:chOff x="3858840" y="2130480"/>
              <a:chExt cx="1297080" cy="1122840"/>
            </a:xfrm>
          </p:grpSpPr>
          <p:sp>
            <p:nvSpPr>
              <p:cNvPr id="309" name="Freeform 48"/>
              <p:cNvSpPr/>
              <p:nvPr/>
            </p:nvSpPr>
            <p:spPr>
              <a:xfrm>
                <a:off x="3932640" y="2130480"/>
                <a:ext cx="111996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Text Box 55"/>
              <p:cNvSpPr/>
              <p:nvPr/>
            </p:nvSpPr>
            <p:spPr>
              <a:xfrm>
                <a:off x="3858840" y="2413440"/>
                <a:ext cx="12970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1" name="Line 27"/>
            <p:cNvSpPr/>
            <p:nvPr/>
          </p:nvSpPr>
          <p:spPr>
            <a:xfrm flipH="1">
              <a:off x="1048680" y="391536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2" name=""/>
            <p:cNvGrpSpPr/>
            <p:nvPr/>
          </p:nvGrpSpPr>
          <p:grpSpPr>
            <a:xfrm>
              <a:off x="752760" y="3395880"/>
              <a:ext cx="1203120" cy="1124280"/>
              <a:chOff x="752760" y="3395880"/>
              <a:chExt cx="1203120" cy="1124280"/>
            </a:xfrm>
          </p:grpSpPr>
          <p:sp>
            <p:nvSpPr>
              <p:cNvPr id="313" name="Freeform 81"/>
              <p:cNvSpPr/>
              <p:nvPr/>
            </p:nvSpPr>
            <p:spPr>
              <a:xfrm>
                <a:off x="783720" y="3395880"/>
                <a:ext cx="111960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Text Box 82"/>
              <p:cNvSpPr/>
              <p:nvPr/>
            </p:nvSpPr>
            <p:spPr>
              <a:xfrm>
                <a:off x="752760" y="3614400"/>
                <a:ext cx="12031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2359800" y="3395880"/>
              <a:ext cx="1203120" cy="1124280"/>
              <a:chOff x="2359800" y="3395880"/>
              <a:chExt cx="1203120" cy="1124280"/>
            </a:xfrm>
          </p:grpSpPr>
          <p:sp>
            <p:nvSpPr>
              <p:cNvPr id="316" name="Freeform 30"/>
              <p:cNvSpPr/>
              <p:nvPr/>
            </p:nvSpPr>
            <p:spPr>
              <a:xfrm>
                <a:off x="2385720" y="3395880"/>
                <a:ext cx="111996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Text Box 54"/>
              <p:cNvSpPr/>
              <p:nvPr/>
            </p:nvSpPr>
            <p:spPr>
              <a:xfrm>
                <a:off x="2359800" y="3632040"/>
                <a:ext cx="12031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8" name="Freeform 50"/>
            <p:cNvSpPr/>
            <p:nvPr/>
          </p:nvSpPr>
          <p:spPr>
            <a:xfrm>
              <a:off x="3933000" y="3389400"/>
              <a:ext cx="111996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Text Box 51"/>
            <p:cNvSpPr/>
            <p:nvPr/>
          </p:nvSpPr>
          <p:spPr>
            <a:xfrm>
              <a:off x="3913200" y="3464640"/>
              <a:ext cx="120312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Line 27"/>
            <p:cNvSpPr/>
            <p:nvPr/>
          </p:nvSpPr>
          <p:spPr>
            <a:xfrm flipH="1">
              <a:off x="1122840" y="519012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1" name=""/>
            <p:cNvGrpSpPr/>
            <p:nvPr/>
          </p:nvGrpSpPr>
          <p:grpSpPr>
            <a:xfrm>
              <a:off x="678960" y="4668840"/>
              <a:ext cx="1378800" cy="1122840"/>
              <a:chOff x="678960" y="4668840"/>
              <a:chExt cx="1378800" cy="1122840"/>
            </a:xfrm>
          </p:grpSpPr>
          <p:sp>
            <p:nvSpPr>
              <p:cNvPr id="322" name="Freeform 57"/>
              <p:cNvSpPr/>
              <p:nvPr/>
            </p:nvSpPr>
            <p:spPr>
              <a:xfrm>
                <a:off x="823320" y="4668840"/>
                <a:ext cx="111852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Text Box 58"/>
              <p:cNvSpPr/>
              <p:nvPr/>
            </p:nvSpPr>
            <p:spPr>
              <a:xfrm>
                <a:off x="678960" y="4890600"/>
                <a:ext cx="13788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2359800" y="4604760"/>
              <a:ext cx="1203120" cy="1123200"/>
              <a:chOff x="2359800" y="4604760"/>
              <a:chExt cx="1203120" cy="1123200"/>
            </a:xfrm>
          </p:grpSpPr>
          <p:sp>
            <p:nvSpPr>
              <p:cNvPr id="325" name="Freeform 34"/>
              <p:cNvSpPr/>
              <p:nvPr/>
            </p:nvSpPr>
            <p:spPr>
              <a:xfrm>
                <a:off x="2406960" y="4604760"/>
                <a:ext cx="1118520" cy="11232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Text Box 61"/>
              <p:cNvSpPr/>
              <p:nvPr/>
            </p:nvSpPr>
            <p:spPr>
              <a:xfrm>
                <a:off x="2359800" y="4890960"/>
                <a:ext cx="12031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7" name=""/>
            <p:cNvGrpSpPr/>
            <p:nvPr/>
          </p:nvGrpSpPr>
          <p:grpSpPr>
            <a:xfrm>
              <a:off x="3933000" y="4668840"/>
              <a:ext cx="1203120" cy="1122840"/>
              <a:chOff x="3933000" y="4668840"/>
              <a:chExt cx="1203120" cy="1122840"/>
            </a:xfrm>
          </p:grpSpPr>
          <p:sp>
            <p:nvSpPr>
              <p:cNvPr id="328" name="Freeform 63"/>
              <p:cNvSpPr/>
              <p:nvPr/>
            </p:nvSpPr>
            <p:spPr>
              <a:xfrm>
                <a:off x="3951360" y="4668840"/>
                <a:ext cx="111996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Text Box 64"/>
              <p:cNvSpPr/>
              <p:nvPr/>
            </p:nvSpPr>
            <p:spPr>
              <a:xfrm>
                <a:off x="3933000" y="4890600"/>
                <a:ext cx="12031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28D5DC-4335-4C53-AED2-EF96C7E2538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riting a Quality Manu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SO 15189 standards requirement, but style and structure are not specif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 steering committ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 the policies for each of the twelve elements of the quality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 each policy, state the goals and designate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content of the manual must include the quality policies, with reference to processes and proced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53E3F8-74F8-43C6-B1C0-B422119A70A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  <a:ea typeface="宋体"/>
              </a:rPr>
              <a:t>Example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  <a:ea typeface="宋体"/>
              </a:rPr>
              <a:t>  Quality Manual Out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1536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Organization and manage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Quality polic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Personnel (staff education and training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Document control, including records, maintenance and archi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Accommodation and enviro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9C9E9C-98DA-4192-890E-2CEC2F91C9D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Quality Manual 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81532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Instruments, reagents, consumables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Safe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Research and development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(option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Preexamination proced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Examination 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Postexamination 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2AF2AF-55F3-4C0C-A0DF-AFBE743673B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533520" y="1294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Quality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Laboratory information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Handling of complaints–occurrenc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Communications and other intera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Preventive and corrective action, internal audi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Eth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Quality Manual 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7DA391-00B9-4C74-A855-28651B42588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685440" y="1294920"/>
            <a:ext cx="807732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laboratory his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manual’s field of appl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manual updat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60948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. 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352680" y="3581280"/>
            <a:ext cx="3353040" cy="22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5000"/>
              </a:lnSpc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H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DB6448-D71A-48C2-80A1-145D4F21958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304920" y="1523880"/>
            <a:ext cx="8534160" cy="30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description of laboratory organ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legal ident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resource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assignment of responsibility /autho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4"/>
          <p:cNvSpPr/>
          <p:nvPr/>
        </p:nvSpPr>
        <p:spPr>
          <a:xfrm>
            <a:off x="533520" y="533520"/>
            <a:ext cx="7924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2. Organization and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CC5506-1413-4AC8-A3F7-6171D232B89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3. Quality Poli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official declaration of a quality policy by appropriate laborator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ssures that the laboratory director will designate a quality manag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defines the laborator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mis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ro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4"/>
          <p:cNvSpPr/>
          <p:nvPr/>
        </p:nvSpPr>
        <p:spPr>
          <a:xfrm>
            <a:off x="609480" y="-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C1884B-4AFD-4824-A617-9D7302C04D1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1T22:20:40Z</dcterms:created>
  <dc:creator>Robin Barteluk</dc:creator>
  <dc:description/>
  <dc:language>en-US</dc:language>
  <cp:lastModifiedBy>bergera</cp:lastModifiedBy>
  <dcterms:modified xsi:type="dcterms:W3CDTF">2009-05-19T09:59:24Z</dcterms:modified>
  <cp:revision>17</cp:revision>
  <dc:subject/>
  <dc:title>Example of Written Policy CLSI HS1</dc:title>
</cp:coreProperties>
</file>